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6DF1C-0F3C-4F8F-9819-2B796C523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56D7C-F7F0-42F3-8CAB-4328F207D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9C29C-A917-4CBB-80E0-7E831B858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10893-8C30-4640-93ED-FE2735FC3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51517-EA12-4638-8774-12C0238CC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E12D3-E34F-4277-9300-56CFDAE3B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ACB95-B89B-4A05-B7BC-776E0866A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6CD4E-A3A6-4C70-8145-D516BAF24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43AA4-EBB2-4D36-A695-95416ADCD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5163E-07EF-4130-9721-45D82D6C0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67B63-57A1-4922-887C-1AAF33130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BD1A9-F3EC-4B2F-8668-65F47C81E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845DE-07D1-4C4E-B72B-C609F67397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mailto:joe@mistachkin.com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ssil: Reload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ll Tcl Integ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n I use Tk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ever, since Fossil does not currently service the Tcl Event Loop, using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wai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ill almost certainly be requir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ing Tcl from Foss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ter Tcl integration has been enabled at compile-time and runtime (via the “tcl” setting), it can be used anywhere it is legal to use TH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ccomplished using several new TH1 commands, namely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clEv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clExp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clInvok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ll defined in the source file 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_tcl.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1 </a:t>
            </a:r>
            <a:r>
              <a:rPr b="0" lang="en-US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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Tcl brid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he TH1 side: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clEv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clExp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clInvo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can be used anywhere TH1 is leg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he Tcl side: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1Ev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1Exp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ful for accessing Fossil / TH1-specific functionality from a Tcl scrip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the “Enhanced Default” ski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th1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TclVersion {}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[catch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Eval info patch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 tclVersion] == 0}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eturn "&lt;a href=\"http://www.tcl.tk/\"&gt;Tcl&lt;/a&gt; version $tclVersion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tclVersion [getTclVersion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th1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vanced” Exampl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from the test suit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RNING: This may be unsafe due to the possibility of multiple copies of the SQLite library in the process (e.g. on Linux).  Also, please do NOT write to the Fossil datab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clInvoke set repository_name [repository 1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 userCount [tclEval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ackage require sqlit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qlite3 db $repository_name -readonly tr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 x [db eval {SELECT COUNT(*) FROM user;}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b clo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urn $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 Dangerous Enough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1 Hooks: Enables a TH1 (optionally with Tcl) script to be evaluated just prior to [and/or just after] any Fossil command or web pa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efine or log comma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form pre-processing and/or post-processing for comma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and line arguments to the command can be seen by the scrip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to enable TH1 Hoo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compile-time using “./configure”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-with-th1-hooks=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to the comm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compile-time using “buildmsvc.bat”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SSIL_ENABLE_TH1_HOOKS=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to the comm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runtime, enable the 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1-hook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 sett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1 Hooks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inside “.fossil-settings/th1-setup” file inside of a test repositor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oc command_hook {}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 {$::cmd_name eq "timeline"}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ts $::cmd_args\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ts "Tcl [tclEval {info patchlevel}]\n\n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ill Need More Dang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1 Docs: Enables TH1 scripts to be evaluated when a “th1” file is viewed as embedded document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abled by default at compile-time and run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ARNING: This option should only be enabled on a repository where all users with check-in privileges are “implicitly trusted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to enable TH1 Do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 100% sure that you want th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compile-time using “./configure”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-with-th1-docs=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to the comm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compile-time using “buildmsvc.bat”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SSIL_ENABLE_TH1_DOCS=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to the comm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runtime, enable the 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1-doc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 sett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1 provides built-in scripting capabilities for Fossil; however, it is a small subset of “full” Tc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was a significant demand for advanced features that could be easily scripted if full Tcl was available (e.g. email notifications for check-in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1 Docs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is is 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ample.th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in the root of 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ository checkout, it could be view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ing the UR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http://localhost:8080/doc/ckout/example.th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th1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initialize 5; # enable Tcl, if configur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ml "Tcl 2 ** 2 == [tclEval {expr 2 ** 2}]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/th1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ow “fileStat.th1” now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more complete example of how to make use of TH1 Docs and Tcl integr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e Mistachkin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joe@mistachkin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place TH1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.  It was decided very early on that replacing TH1 would be too much of a break with backwards compatibil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ead, a dual-language solution was developed that involves seamless bi-directional “bridging” of TH1 and Tc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quir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s with Tcl 8.4 or higher.  Supported on all platforms where dynamic loading is avail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ically, the new “private stubs” mechanism should be used (created by Jan Nijtman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ilation (Linux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a Fossil source checkou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automatic detection of Tcl library work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/configure --with-tcl=1 --with-tcl-stubs=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wise, something like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/configure --with-tcl=1 --with-tcl-private-stubs=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ivate Stub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allow Fossil to be compiled with Tcl integration support without needing to locate an actual Tcl (or stubs) library at compile-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commended Compile Op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will configure Fossil to use the in-tree zlib, enable OpenSSL and JSON, and enable Tcl integr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/configure --with-zlib=compat/zlib --with-openssl=auto --json=1 --with-tcl=1 --with-tcl-private-stubs=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ilation (Window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MSVC is recommen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he “buildmsvc.bat” tool from a Fossil source checkout is recommended, e.g.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d w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uildmsvc.bat fossil.exe FOSSIL_ENABLE_TCL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eat, it built, now wha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you have a Fossil binary with Tcl integration enabled, there is [at least] one more step to be able to evaluate Tcl from within Fossil, which is to enable the “tcl” setting using a command similar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ssil settings tc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can be set per-repository or globally.  It is disabled by defaul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11T22:16:42Z</dcterms:created>
  <dc:creator>Joe Mistachkin</dc:creator>
  <dc:description/>
  <dc:language>en-US</dc:language>
  <cp:lastModifiedBy>Joe Mistachkin</cp:lastModifiedBy>
  <dcterms:modified xsi:type="dcterms:W3CDTF">2014-10-11T23:33:53Z</dcterms:modified>
  <cp:revision>74</cp:revision>
  <dc:subject/>
  <dc:title>Fossil</dc:title>
</cp:coreProperties>
</file>